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99E-1826-41C8-8528-2311D339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270-0FFA-4152-A338-2ECD684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FFB-6DEF-4112-8F5F-A3A1DEBA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27D-235F-44D6-9CB3-E65737D2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8EB-BE37-46B5-B380-81BEE0B4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B2CB-754E-4897-9324-45D03929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64CC-F9CB-41E7-AA04-512D3D9B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F5AE-732A-4485-97CC-DC39BCE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F9D-0938-4312-B292-46C6E346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75C9-C99F-4353-87F4-5AD0ACB7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1ECC-510C-46A8-A46A-056EC9DC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CEB-E907-4CE8-AB5D-17426147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61C-BB49-4C06-B2B8-3879BA2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6AA-EDFC-4F2F-AFC1-18BF8B5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6A21-F39C-44E5-93E4-5D6BF15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4CD-A971-4424-8779-242DD2F1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118-658D-4D9F-A5DC-F9C94E69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5D7-2707-43F4-A8B4-CAF1A8E0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9B8-5C5D-4222-9797-D25D195E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476-34C9-441F-BED6-38C7F68D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9AF-C6A5-405A-B6EC-0FCF0913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EB9-D0C3-4F26-9CF0-AF06C96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EB9-DB67-4F8C-8F6C-167DCE7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D70-ADE8-4F24-B20A-5EADF1C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D838-551C-410A-AABA-A283003A14F1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EBC-5D5E-460D-9355-3CA380BA9C8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Lucida Grande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27560" y="24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Movie Maker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Download and save the sample digital pictures. (web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9:19:53Z</dcterms:modified>
  <cp:revision>34</cp:revision>
  <dc:subject/>
  <dc:title>Workshop Title</dc:title>
</cp:coreProperties>
</file>